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817-ED4F-4CED-A7AF-A773C631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A57-3264-4F56-8029-7FEEB17F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452-625C-48BD-8F1B-08D0D5C0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BA6-2D57-4549-9562-C0B9D6B3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C38-DDE0-4A66-BB0F-60968E70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20E-8938-430B-8A11-F6265B80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69B-CFF6-400D-B2B8-52FDE838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28F-C952-42EE-ADB5-C078294E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E62-1EE2-44A6-89F6-73CAD39B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93D-853D-47A6-89A4-D882B73D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B04-4406-4214-9AF8-DE7BC16F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0D1-85C4-47C1-8E50-7673B625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79B7-F68E-408D-B4EF-558BE31815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06:26:18Z</dcterms:created>
  <dc:creator>yaoji</dc:creator>
  <dc:description/>
  <dc:language>en-US</dc:language>
  <cp:lastModifiedBy>yaoji</cp:lastModifiedBy>
  <dcterms:modified xsi:type="dcterms:W3CDTF">2011-06-24T06:27:17Z</dcterms:modified>
  <cp:revision>1</cp:revision>
  <dc:subject/>
  <dc:title>Slide 1</dc:title>
</cp:coreProperties>
</file>